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3C8-90E0-41DB-918E-88170F1B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070-7CA8-4B0E-9638-1B9616A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3A7-B289-4FBE-A194-7282F071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F0D-FFC2-4765-BFA1-394FD1FB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AD9-E745-4CCB-8600-698BCC02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E45-03C0-4C8E-A257-6AE8E7F3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020-1771-4F6C-8F3E-3425AC5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735-2B88-455E-917F-3E6E80EA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4DA-AD23-4667-90FF-84138A37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978-3F22-45F1-9171-4932900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D47-C61B-4F7F-A4FB-DB91E6B9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43B-4192-4AE8-9B1D-6EDD502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2AC-59AC-4C53-B3D2-C478D31F4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ower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895480" y="56386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ain St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624560" cy="4624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048120" y="5486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corn Chic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2133720" y="50976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666880" y="54864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terf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3516120" y="54100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3124080" y="53341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llyf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2309760" y="228600"/>
            <a:ext cx="4776840" cy="4776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62320" y="5029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 Bu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5" descr=""/>
          <p:cNvPicPr/>
          <p:nvPr/>
        </p:nvPicPr>
        <p:blipFill>
          <a:blip r:embed="rId1"/>
          <a:stretch/>
        </p:blipFill>
        <p:spPr>
          <a:xfrm>
            <a:off x="2308320" y="380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743200" y="5257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2309760" y="457200"/>
            <a:ext cx="4548240" cy="4548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895480" y="5486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marine Sand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286000" y="50976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666880" y="54864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ck Fli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2309760" y="457200"/>
            <a:ext cx="4929120" cy="4929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276720" y="56386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wl P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286000" y="585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505320" y="5791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y o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454120" y="738360"/>
            <a:ext cx="4098960" cy="4100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505320" y="51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llow F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22:47:12Z</dcterms:created>
  <dc:creator>Meredith</dc:creator>
  <dc:description/>
  <dc:language>en-US</dc:language>
  <cp:lastModifiedBy>kjcrumd</cp:lastModifiedBy>
  <dcterms:modified xsi:type="dcterms:W3CDTF">2010-11-16T16:25:33Z</dcterms:modified>
  <cp:revision>2</cp:revision>
  <dc:subject/>
  <dc:title>PowerPoint Presentation</dc:title>
</cp:coreProperties>
</file>